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113-48E7-41AF-BC89-F3CA9131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F4A-D185-44A6-9375-D04C29D6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73E-7B14-4D4F-B54C-922837C4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B68-7290-4520-80B2-FA330047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238-592F-48B9-85A5-10808655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DA1-064F-46D8-825D-8F5D2603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74C-AC50-4C64-89FE-FEF9024F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534-8A6A-4ED2-A73D-A6610F25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F90-7A70-41DC-9F80-D4F2C704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BF0-37B5-4B8D-99BD-5FE1BC6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F36-98D3-45F1-B4FC-FD3AE574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8EF-99ED-4114-9881-1B44851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A0E4-ACD0-4DF6-802D-5624592F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youtu.be/H2ACoPjxYeg" TargetMode="External"/><Relationship Id="rId3" Type="http://schemas.openxmlformats.org/officeDocument/2006/relationships/hyperlink" Target="http://youtu.be/Hqqienro4Ok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7640" y="494172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a imagen vale más que mil palab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Imagen+11"/>
          <p:cNvPicPr/>
          <p:nvPr/>
        </p:nvPicPr>
        <p:blipFill>
          <a:blip r:embed="rId1"/>
          <a:stretch/>
        </p:blipFill>
        <p:spPr>
          <a:xfrm>
            <a:off x="1187280" y="333360"/>
            <a:ext cx="4680000" cy="4452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Videos-icon"/>
          <p:cNvPicPr/>
          <p:nvPr/>
        </p:nvPicPr>
        <p:blipFill>
          <a:blip r:embed="rId2"/>
          <a:stretch/>
        </p:blipFill>
        <p:spPr>
          <a:xfrm>
            <a:off x="5940360" y="177336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Videos-icon"/>
          <p:cNvPicPr/>
          <p:nvPr/>
        </p:nvPicPr>
        <p:blipFill>
          <a:blip r:embed="rId1"/>
          <a:stretch/>
        </p:blipFill>
        <p:spPr>
          <a:xfrm>
            <a:off x="6227640" y="1890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684360" y="349200"/>
            <a:ext cx="41749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mos los vídeos que tenemos a continuación y escribimos en un documento la información que nos parezca interes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terminar, hacemos una puesta 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armadura de los caball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íde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íde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íde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torneo med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Víde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Víde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Víde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076720" y="3429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iudad med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Reloj"/>
          <p:cNvPicPr/>
          <p:nvPr/>
        </p:nvPicPr>
        <p:blipFill>
          <a:blip r:embed="rId4"/>
          <a:stretch/>
        </p:blipFill>
        <p:spPr>
          <a:xfrm>
            <a:off x="4356000" y="443700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6156360" y="465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 hora 3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8:41:19Z</dcterms:created>
  <dc:creator>IR015252AG</dc:creator>
  <dc:description/>
  <dc:language>en-US</dc:language>
  <cp:lastModifiedBy>IR015252AG</cp:lastModifiedBy>
  <dcterms:modified xsi:type="dcterms:W3CDTF">2014-02-05T08:42:14Z</dcterms:modified>
  <cp:revision>1</cp:revision>
  <dc:subject/>
  <dc:title>Diapositiva 1</dc:title>
</cp:coreProperties>
</file>